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46B-C097-4423-B292-FA3BA348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AF2-DD21-4BFA-9436-9D7F8895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129-141E-40A2-A246-CE5FF198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65C-8F94-4520-8819-FBB05F8E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A6A-EB79-4920-BDEC-2DAD984D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E9F-D530-488B-A2FC-2F008327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E36-F9F6-46DB-B5CF-A935EB16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E6F-1FDE-4317-93E3-C1FE0DD3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982-8020-47FA-AE49-630485B3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D6D-51E6-40FF-912D-0ECEDFD0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AE4-3366-4258-9340-D4017E77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170-54BF-4E4D-9F62-24033941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FA87-8CB9-4E96-BAC5-172DF317E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11280" y="549360"/>
            <a:ext cx="828180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октябр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р звезд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звезд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1 (на отметку «3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акое звез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ая звезда самая близкая к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 различаются звезды по цвету и яр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то такое созвезд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2. (на отметку «4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лните схему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значают эти циф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8, 15 000 0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6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3. (на отметку «5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ить рассказ о звездах и созвезд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H="1">
            <a:off x="1042920" y="3213000"/>
            <a:ext cx="237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4211640" y="33289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716360" y="3213000"/>
            <a:ext cx="2664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. 34-35 прочита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стр 3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49200" y="4219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8:35:56Z</dcterms:created>
  <dc:creator>XTreme</dc:creator>
  <dc:description/>
  <dc:language>en-US</dc:language>
  <cp:lastModifiedBy>Авхадиева</cp:lastModifiedBy>
  <dcterms:modified xsi:type="dcterms:W3CDTF">2012-10-13T06:16:44Z</dcterms:modified>
  <cp:revision>27</cp:revision>
  <dc:subject/>
  <dc:title>Слайд 1</dc:title>
</cp:coreProperties>
</file>